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A12-3C53-4F8A-AB49-3F39E5A7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9B5-1880-48D4-8A92-26844E06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13923-FD0B-4E8F-A7C8-ED2ED88A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528E7-49C0-4336-ABE5-D8B75588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0CED0-C2A9-40EA-B473-E683DFC1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A3D11-2631-4786-8185-0CC62C0C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7109F-B063-4239-A90C-336C50DB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C10BB-AD2F-4C6E-A0E4-989E5D27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E4E36-9364-437E-BB3F-98A7D31F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41911-0075-457C-9E6B-17AE5A7C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C5EC8-2FBC-4906-B474-ED70410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A63A2-2E2F-4DFA-9922-8810FD40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3952-745C-4F34-AC2E-1469A41C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4B023-A120-420E-908D-FAD7188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48083-2645-499B-AA4D-98661C72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DB0DA-9FDF-4DA1-991C-7A0C66C8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CAEB2-057E-403D-8FB7-E20DBF17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D99EC2-2422-4114-982E-6103462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73F5A-BFFE-4EDE-BDA2-2E0BA3AF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0DA2D-EE48-42E5-9581-56E3A14A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ACE3B-952E-4147-9E92-55F7A138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C8BE8-0783-4D67-BF3F-51FA26DF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DD782-C31D-4CB3-8DEC-617AE978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ABB6-71BA-4C84-95AA-A3ACFF6F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101E3-809E-452B-B889-A2024E0BF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FCFA-A8C0-405D-9CA6-71362959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B81C-FB64-4A1C-93FC-7F7F5D9D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1916-D2F0-488B-A74C-97FA4716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344-66E3-4C46-A6AB-0A1D75C1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BAF4-3CC2-44CB-B306-AFB0F1BA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A29F8-9528-47CE-9DCD-4CD3237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737F7-A607-4AE3-A8FA-4A43DEA1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74A-EC3F-42FD-B73A-8001A351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B31E-35DB-4A20-B53F-EF173D25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713-C1A1-4C24-B0DC-2F5FC662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C11C-0C63-445B-96FB-88D2C21A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4772-794E-4F1D-8918-AFB147D7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1D484-06CB-441D-B576-D4D3AA0E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8CC57-A02A-4FD3-A593-6B6B6C079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948BD-EAD3-4939-A64E-05D64960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CF9EF-ED65-4EBE-B3D5-2165862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B75F3-66AA-48FC-BB93-F46843A4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870CF-20CC-463C-A157-17DE7B9E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AF4C-6A31-4B16-A8F9-2FBECF02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44C4E-4369-4670-B202-73B98500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DC93-1A04-4C7E-862A-3D90E307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E57F7-2643-47B9-8E2A-9AB6DA8B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882D2-7ECB-41BB-BC2B-5ED41B41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8CA9-A297-4DA9-9882-046A23C6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DF2A5-F129-4866-AA35-2558519C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B125E-0F97-439F-A7E9-D93365F8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1EC0-CCAF-4484-8F4F-7782FC8D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FB0F-1855-419C-AD9A-EF1AF8D8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C2A0C-0C26-4B82-91F8-7553A989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60C6-1E6B-4E35-A6A8-57CF306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27AD-8E3D-44E1-BC64-AFFE9B63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4DD1-07DA-45C5-80D5-B6B491A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96BF8-1485-4A1D-8A11-250D8BD0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427CF-4C0A-42F1-989F-F97F2C02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CC1F9-36AB-4CA6-B81D-19415DC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32E0E-E4A8-4171-A86D-AC63BFB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90EB1-6091-4783-A9EA-50CA8C40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F0F7-AA65-40F8-98CC-4BEE0E98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4743-D002-4555-B316-F5CDE42F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718E9-FE6C-4146-A003-74040AE0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518-D3CB-4538-8C46-2C0CD19D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2626F-CE13-46D0-BEE6-6E507C5E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62CB7-797D-4031-8109-02B5F746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1ADB-4B2F-44E0-9374-1907E338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739F-E51C-4531-A6A7-DE7316D9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C1C37-6A67-444F-8413-A6682687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5AE3-218F-42F1-8E06-37AAB90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086A-C523-4D0B-A58F-DF143533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3B70-C1BE-43AB-A2A8-7D8B6F9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CFF3D-9C95-4E1C-86A5-3BD1CA1F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4008F-15A4-4B8E-8CB6-5AAE1292E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963-DB7F-49EC-AE9B-D45D4AAB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F8FF-97E0-40FC-9804-3F810969A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41BDAB-BEE5-4DEB-878E-E81DF237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30DA-AE91-4E96-82CA-0481707A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3D713-7090-44CC-9361-69EC5026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43A83-5F9E-496D-BB9A-F5F6F36E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69D8-AC2A-4E4A-A4C9-C3E1C6DE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D5C1-7A9E-4296-875E-03FD280A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DDC9-9D2D-49D8-B325-020E29E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8527D-C039-43C8-909E-E9095EC6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06478-4A89-48EE-90C6-9C77EF55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05F-5170-46B9-B163-5615FE7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F28D9-0FFB-4551-BA5F-CE8C16C8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C7B8-F48A-4B7E-B933-EA4171D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43E23-62BA-4431-8E1E-1A7B578B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D2AE4-D3AF-4EF4-9B12-FD0DF6748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DF72-FB1B-456E-B5DF-23CE8CC9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EEE2-AEEC-4646-9E4F-28FEBB81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A6B59-DE90-4283-B824-724DEB91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F89C2-4BB4-4387-ADA2-D5D43810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EAD73-AE3F-4044-875E-BCFED1A2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EA3E6-6AB1-4825-8A40-E2BEC460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D18-288B-445D-BE19-D2B70635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0B1D6-3DD6-4CBE-9842-D1F5A72C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34B1-FE89-4DCD-A631-506ACDD0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E515E-3B5D-4410-8914-4ED3B27A1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F5C54-0A93-43EE-A2DF-775023FF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1B14F-80ED-4562-8504-931CA466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B3C5D-44CB-4C3D-AAC1-B5835F23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07229-B16F-4818-8717-56EC16CD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2D260-405D-4E02-A2E8-AB0C7A3D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0FD55-9C1B-4EE8-A34D-D5CB0E5C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FEB3-A04C-46F7-AE6E-0B7B7A9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804-7EE2-439B-BDB0-CAA37CCB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092F-EE06-4561-873F-C1553749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D1E25-C53F-437D-9794-20B7908A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9D7D6-A779-4D3B-9667-4721D45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9ACE1-2AC7-45C2-8881-654FC5A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312CC-8B0B-48E0-A371-444743BB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10D9A-BAEA-4EDF-8E6E-5963D5E3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3B351-6331-4F01-A957-16F86081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98426-0EDE-499C-9D54-C227027E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BC709-586C-46C8-8605-A7EEA725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33C85-132B-434C-BF9B-E67D35B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F3CD-9197-4E24-BFC9-FF15A04764D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D44A-DBAC-49B0-AA00-C1093D81EF6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8D48-A1B4-49AB-8C19-39482DB61B6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6AC-3CE5-4C20-B603-556D035E9DC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2EFB-D212-48C9-A862-503EA916B70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4272-D5DA-4AEF-85EF-A9B8F1D8415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2D4-CDC2-4500-B5FC-FD87B63B1DDA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624C-4A64-46C8-A15A-165AEC35B01B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DDD6-83CB-47E4-8A10-F53E78F06CF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B5A1-EC10-4D54-AAD9-0BF005692E8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1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2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가르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할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선생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버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어머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께서도 안녕하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남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도 잘 있습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있습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친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학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재호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부모님께서도 안녕하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량위링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아니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hese days, nowadays, recent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지내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to get along (do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부모님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어떻게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how; interrogative adver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어떻게 합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이것을 어떻게 만들었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은 어떻게 생겼습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	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께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; honorific expression of 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이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선생님께서 이야기하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할아버지께서 오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아버지께서 신문을 읽으십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6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 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도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lso, too; a subject/object post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저도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좋습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사람도 압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그 음식도 맛있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  <a:ea typeface="굴림"/>
              </a:rPr>
              <a:t>Particle? Or Postpos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맑은 고딕"/>
              </a:rPr>
              <a:t>Make nouns/prenouns into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ubject/object/possesive for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quivalent array ( ~ and ~, ~ or ~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djective or adverbe phr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맑은 고딕"/>
              </a:rPr>
              <a:t>Postpositions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씨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r. (Ms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ofess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르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teac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있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e, exist, pres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남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husb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친구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fri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aught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98440" indent="-2984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resid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장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irector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할아버지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grandfa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어머니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부인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if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hil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동생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youn ger bro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,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장사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정수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영진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이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다나카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일러 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: _________, 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요즘 어떻게 지내십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잘 지냅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야마다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이 부장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최 교수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임지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김윤미 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24T14:40:06Z</dcterms:modified>
  <cp:revision>70</cp:revision>
  <dc:subject/>
  <dc:title>KOREAN LANGUAGE</dc:title>
</cp:coreProperties>
</file>